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8B8-C504-43D1-A81B-30C972A0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9D9-8EF0-41AB-9CD3-1A372C7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4B8-56D4-4ACA-97A1-7FC25D6A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0E1-442A-432C-B613-1EBDB9BC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628-86F9-44D1-822D-F95C5F1B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E57-A7DB-4E50-86B2-1E43769E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F88-B207-40E9-B3C9-74017A9A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7A3-4DCF-44BF-B8FD-C96847AA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143-163C-4185-84FF-0208EAE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C68-D4CD-4159-9361-FA9B1DE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EBB-BB6E-424D-AB55-C08BB11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46B-69AB-45E5-9FED-7F8FF14F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48B8-8D61-4CF9-BE36-503BD626B2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Deutsch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expressionistische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Cezanne"/>
              </a:rPr>
              <a:t>Fil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fwm_nos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010280" y="228600"/>
            <a:ext cx="1828800" cy="115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ufa_met"/>
          <p:cNvPicPr/>
          <p:nvPr/>
        </p:nvPicPr>
        <p:blipFill>
          <a:blip r:embed="rId2"/>
          <a:stretch/>
        </p:blipFill>
        <p:spPr>
          <a:xfrm>
            <a:off x="2971800" y="413244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_cover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553080" y="2971800"/>
            <a:ext cx="240372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Caligari Poster"/>
          <p:cNvPicPr/>
          <p:nvPr/>
        </p:nvPicPr>
        <p:blipFill>
          <a:blip r:embed="rId4"/>
          <a:srcRect l="3326" t="0" r="0" b="0"/>
          <a:stretch/>
        </p:blipFill>
        <p:spPr>
          <a:xfrm>
            <a:off x="380880" y="2895480"/>
            <a:ext cx="228600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"/>
          <p:cNvPicPr/>
          <p:nvPr/>
        </p:nvPicPr>
        <p:blipFill>
          <a:blip r:embed="rId5"/>
          <a:stretch/>
        </p:blipFill>
        <p:spPr>
          <a:xfrm>
            <a:off x="60948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Bekannte Regisseu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wm_1925"/>
          <p:cNvPicPr/>
          <p:nvPr/>
        </p:nvPicPr>
        <p:blipFill>
          <a:blip r:embed="rId1"/>
          <a:stretch/>
        </p:blipFill>
        <p:spPr>
          <a:xfrm>
            <a:off x="6000840" y="251460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95880" y="6172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W. Murna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161000" y="618660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tz La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7" descr="lang"/>
          <p:cNvPicPr/>
          <p:nvPr/>
        </p:nvPicPr>
        <p:blipFill>
          <a:blip r:embed="rId2"/>
          <a:stretch/>
        </p:blipFill>
        <p:spPr>
          <a:xfrm>
            <a:off x="762120" y="2514600"/>
            <a:ext cx="2706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371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Bekannte Schauspiel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m_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80880" y="2819520"/>
            <a:ext cx="333396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rcRect l="0" t="4835" r="0" b="4835"/>
          <a:stretch/>
        </p:blipFill>
        <p:spPr>
          <a:xfrm>
            <a:off x="5553000" y="99072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931680" y="571500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ter Lor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791320" y="5562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lene Dietri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Expressionistische 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 Zü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_2"/>
          <p:cNvPicPr/>
          <p:nvPr/>
        </p:nvPicPr>
        <p:blipFill>
          <a:blip r:embed="rId1"/>
          <a:stretch/>
        </p:blipFill>
        <p:spPr>
          <a:xfrm>
            <a:off x="152280" y="1219320"/>
            <a:ext cx="3048120" cy="259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365400" y="3774960"/>
            <a:ext cx="25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trast zwisc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l und dunk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lorre_spiegel"/>
          <p:cNvPicPr/>
          <p:nvPr/>
        </p:nvPicPr>
        <p:blipFill>
          <a:blip r:embed="rId2">
            <a:lum bright="6000"/>
          </a:blip>
          <a:srcRect l="1961" t="0" r="0" b="0"/>
          <a:stretch/>
        </p:blipFill>
        <p:spPr>
          <a:xfrm>
            <a:off x="4876920" y="2286000"/>
            <a:ext cx="3809880" cy="290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nosfera1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914400" y="4591080"/>
            <a:ext cx="3352680" cy="2114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4371840" y="6172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eme Situati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362920" y="525780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ertriebene Gefüh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zanne"/>
              </a:rPr>
              <a:t>Expressionistische Zü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wm_nos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2743200" cy="173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58920" y="31240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örende Blickwink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181120" y="6172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reotypische Person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3" descr="fl_met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181480" y="4181400"/>
            <a:ext cx="3105360" cy="2067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5790600" y="32004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tastische Kuliss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74000" y="609588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drehte Wirklichke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6"/>
          <p:cNvGrpSpPr/>
          <p:nvPr/>
        </p:nvGrpSpPr>
        <p:grpSpPr>
          <a:xfrm>
            <a:off x="457200" y="2332080"/>
            <a:ext cx="8229600" cy="360"/>
            <a:chOff x="457200" y="2332080"/>
            <a:chExt cx="8229600" cy="360"/>
          </a:xfrm>
        </p:grpSpPr>
        <p:sp>
          <p:nvSpPr>
            <p:cNvPr id="74" name="Rectangle 25"/>
            <p:cNvSpPr/>
            <p:nvPr/>
          </p:nvSpPr>
          <p:spPr>
            <a:xfrm>
              <a:off x="457200" y="2332080"/>
              <a:ext cx="8229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457200" y="2332080"/>
              <a:ext cx="82296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Picture 20" descr="Holstenwall Carnival Sideshow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62120" y="3886200"/>
            <a:ext cx="3143160" cy="2171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166680" y="241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9" descr="cal2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172200" y="1295280"/>
            <a:ext cx="2571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2:27:47Z</dcterms:created>
  <dc:creator>Van Orden</dc:creator>
  <dc:description/>
  <dc:language>en-US</dc:language>
  <cp:lastModifiedBy>Stefan</cp:lastModifiedBy>
  <dcterms:modified xsi:type="dcterms:W3CDTF">2010-10-26T17:26:21Z</dcterms:modified>
  <cp:revision>10</cp:revision>
  <dc:subject/>
  <dc:title>Deutsche expressionistische Filme</dc:title>
</cp:coreProperties>
</file>